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34B-EE88-4719-8BFD-6E089CC4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E49-3CD5-4280-906B-3F17A737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0BC-9C7B-4D11-BA80-687EBBDA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1E6-FF18-4A07-AA53-6DD964FA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A37-AB13-4CFE-99AF-1C01436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AA3-F063-4F7C-A676-94E37CDE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03C-125D-4DB6-9D19-A08F522F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A2F-AE67-4F18-AA67-82A5C0D9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834-3397-4333-B1DA-B431120F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D0B-0F84-458F-9102-0141D029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682-AAA1-4E56-9DB2-D4ACB5D9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5B5-9FEE-44E9-A41B-3E4A0CE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3920-E11F-4560-AE48-625127745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20574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宋体"/>
              </a:rPr>
              <a:t>真实的高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648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引领者：翁垟第一小学   陈金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不露声色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你能在寄稿时，随稿给编辑先生们附上一封短信，或者只是一句话，说‘我是大仲马的儿子’，或许情况就会好多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轻的小仲马不但拒绝以父亲的盛名做自己事业的敲门砖，而且不露声色地给自己取了十几个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笔名，以避免那些编辑先生们把他和大名鼎鼎的父亲联系起来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786456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，我不想坐在您的肩头上摘苹果，那样摘来的苹果没味道。”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97160" y="2057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敲门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489040"/>
            <a:ext cx="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黑体"/>
              </a:rPr>
              <a:t>笔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556272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我只想拥有真实的高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轻的小仲马不但拒绝以父亲的盛名做自己事业的敲门砖，而且不露声色地给自己取了十几个笔名，以避免那些编辑先生们把他和大名鼎鼎的父亲联系起来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如果你能在寄稿时，随稿给编辑先生们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一封短信，或者只是一句话，说‘我是大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的儿子’，或许情况就会好多了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800600"/>
            <a:ext cx="7864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，我不想坐在您的肩头上摘苹果，那样摘来的苹果没味道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637240"/>
            <a:ext cx="73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只想拥有真实的高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807732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资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1852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年，五幕剧《茶花女》上演时，剧场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满，万人空巷，获得了更大的成功。小仲马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这个喜讯告诉远在比利时的父亲时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电报上写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第一天上演时的盛况，足以令人误以为是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作品。”父亲立即回电，那大仲马会说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724280"/>
            <a:ext cx="71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最好的作品正是你，儿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晋朝书法家父子：王羲之   王献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北宋文学家父子</a:t>
            </a: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: </a:t>
            </a: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苏  洵   苏轼   苏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波兰科学家母女：居里夫人   伊雷娜•居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美国总统：老布什     小布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黑体"/>
                <a:ea typeface="黑体"/>
              </a:rPr>
              <a:t>奥地利音乐家父子：大施特劳斯   小施特劳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00200" y="609480"/>
            <a:ext cx="285768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认识名人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许在父亲的帮助下，小仲马也可以顺利通往成功之路。学完课文，你是赞成小仲马依靠父亲的帮助还是自己的努力？写下你赞成或反对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改写课文：如果一开始小仲马借助父亲的盛名，轻而易举地出名了，结果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对小仲马的艰难历程，你有什么感言？联系自己的实际情况，说说小仲马的行为对你有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6576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6668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拓展训练：（自由选择一题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1231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0" y="2286000"/>
            <a:ext cx="462924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再见！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00400" y="1447920"/>
            <a:ext cx="4648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9966ff"/>
                </a:solidFill>
                <a:latin typeface="Arial"/>
              </a:rPr>
              <a:t>小仲马在稿子总是（       ）的情况下，拒绝了父亲的帮助。面对一张张（          ），他没有（       ），依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Arial"/>
              </a:rPr>
              <a:t>（           ）地创作。最后，《茶花女》这部作品让他（            ），人们对他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碰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200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退稿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733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举成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800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叹不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380880"/>
            <a:ext cx="48675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填词语，说内容。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9735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大仲马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名气很大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），他的作品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流传非常广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大仲马的儿子小仲马刚开始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一点也没有名气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他的作品自然总是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遭到拒绝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(         )</a:t>
            </a: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他们的名气和地位相差得很远，</a:t>
            </a:r>
            <a:r>
              <a:rPr b="0" lang="zh-CN" sz="3200" spc="-1" strike="noStrike" u="sng">
                <a:solidFill>
                  <a:srgbClr val="0099cc"/>
                </a:solidFill>
                <a:uFillTx/>
                <a:latin typeface="宋体"/>
              </a:rPr>
              <a:t>完全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cc"/>
                </a:solidFill>
                <a:latin typeface="宋体"/>
              </a:rPr>
              <a:t>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1981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广为流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不见经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5053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碰     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ǒn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不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447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名鼎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335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会吗？看意思写词语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1848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年，小说《茶花女》问世了，使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一举成名。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1952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年，《茶花女》又被改编成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名话剧，演出获得更大的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657600"/>
            <a:ext cx="815364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资料：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小仲马后来写了 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余部剧作。其中有《半上流社会》《金钱问题》、《私生子》、《放荡的父亲》、《欧勃雷夫人的见解》、《阿尔丰斯先生》、《福朗西雍》等。小仲马成为法国现实主义戏剧的先驱者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不露声色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1080" y="175248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张张冷酷无情的退稿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514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您的散文主题思想不正，予以退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429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您的小说构思太过普通，予以退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41972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您的文章文笔过于稚嫩，予以退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572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不露声色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05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露声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1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2971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面对一张张冷酷无情的退稿笺，小仲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没有沮丧，仍然不露声色地坚持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22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7920" y="3276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2960" y="3289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没有沮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38480" y="36576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66680" y="1066680"/>
            <a:ext cx="66294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面对一张张退稿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夜深人静的夜晚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烈日炎炎的夏日里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大雪纷飞的寒冬中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朋友邀请外出游玩的日子，小仲马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---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057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</cp:lastModifiedBy>
  <dcterms:modified xsi:type="dcterms:W3CDTF">2012-11-19T14:41:30Z</dcterms:modified>
  <cp:revision>2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